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5A2C-5AE1-4966-9351-7C02513D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7432-955A-4BD6-A81F-7F44D85E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1F5D-444C-49DB-9585-BD50DFB1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AF01-C37F-4EB0-ABD4-BD172C5F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B82C8-D8B4-4D1B-B138-3C6EDC5DF5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76138-01B8-470F-8AE0-DE1760F008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28F67-BBA6-4E64-ABF5-3F6FABB630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80450-057B-4A16-9C4B-5B067C7E27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064E9-3EF8-473D-950F-999117160C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16DC9-D85C-4A27-8332-9E7E8AE392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6C5C5-58F0-45BB-8E2C-378C300A3B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1D1-E752-4C04-B48C-00AF78DB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0FA88-FECE-4037-B6DC-A6197112E9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5E735-3658-45E6-9D8A-4BF614AAD6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EFFA0-9FB7-4489-847E-B3DE76C155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5438E-8405-40D9-8D35-63192CF1A9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3CAD3-4818-40E3-AC27-0C9D6515F3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F690-746C-4686-8BC6-DF587D3C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D87E-6844-41F2-AD68-71299367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643-ECEA-4095-9A42-02B4C8FF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875C-386C-4565-ACE7-4A303644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10F0-1425-4CEC-AB5D-F505F344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D59A-6597-4394-AE22-1DD10BC6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941-68C6-4C0A-8780-F33A77B7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c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c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EE05-427A-4F2A-998E-96F294914EA3}" type="slidenum">
              <a:rPr b="0" lang="en-US" sz="1000" spc="-1" strike="noStrike">
                <a:solidFill>
                  <a:srgbClr val="cc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EF27-13B9-4BCC-80AF-4543424E5B95}" type="slidenum">
              <a:rPr b="0" lang="en-US" sz="1000" spc="-1" strike="noStrike">
                <a:solidFill>
                  <a:srgbClr val="cc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aec.org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quiry Science and the 5-E Mode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nhandle Area Educational Consortiu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53 West Boulevar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ipley, FL  32428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www.paec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-E Model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describe what they see and offer explanations of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 helps students make sense of observations and questions that a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 introduces scientific explanation for the event through direct and formal i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and teacher identify common terms for experiences and expla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65070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Carin, Bass &amp; Contant, 2005)</a:t>
            </a:r>
            <a:endParaRPr b="0" lang="en-US" sz="12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-E Model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 facilitates students in developing understandings of concepts and ideas that are broader and more in dep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engage in cooperative group work on new activities that relate to the original learning t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present and defend their understandings in cooperative and whole class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65070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Carin, Bass &amp; Contant, 2005)</a:t>
            </a:r>
            <a:endParaRPr b="0" lang="en-US" sz="12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-E Model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 of what has been lea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teacher, group or self-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 tools may 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b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fol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assessments that are formative or summ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65070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Carin, Bass &amp; Contant, 2005)</a:t>
            </a:r>
            <a:endParaRPr b="0" lang="en-US" sz="12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in, A., Bass, J., &amp; Contant, T. (2005).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ethods for teaching science as inqui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Upper Saddle River, NJ: Pears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e4e4"/>
                </a:solidFill>
                <a:latin typeface="Arial"/>
              </a:rPr>
              <a:t>Jarrett, D. (1997). </a:t>
            </a:r>
            <a:r>
              <a:rPr b="0" i="1" lang="en-US" sz="2000" spc="-1" strike="noStrike">
                <a:solidFill>
                  <a:srgbClr val="e4e4e4"/>
                </a:solidFill>
                <a:latin typeface="Arial"/>
              </a:rPr>
              <a:t>Inquiry strategies for science and mathematics learning</a:t>
            </a:r>
            <a:r>
              <a:rPr b="0" lang="en-US" sz="2000" spc="-1" strike="noStrike">
                <a:solidFill>
                  <a:srgbClr val="e4e4e4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e4e4e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4e4e4"/>
                </a:solidFill>
                <a:latin typeface="Arial"/>
              </a:rPr>
              <a:t>Portland, Oregon: Northwest Regional Educational Laborat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quiry Scienc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4267080"/>
            <a:ext cx="6705720" cy="1923480"/>
          </a:xfrm>
          <a:prstGeom prst="rect">
            <a:avLst/>
          </a:prstGeom>
          <a:solidFill>
            <a:srgbClr val="e4e4e4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quiry is the set of behaviors involved </a:t>
            </a:r>
            <a:endParaRPr b="0" lang="en-US" sz="2000" spc="-1" strike="noStrike">
              <a:solidFill>
                <a:srgbClr val="cc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struggle of human beings for </a:t>
            </a:r>
            <a:endParaRPr b="0" lang="en-US" sz="2000" spc="-1" strike="noStrike">
              <a:solidFill>
                <a:srgbClr val="cc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sonable explanations of phenomena </a:t>
            </a:r>
            <a:endParaRPr b="0" lang="en-US" sz="2000" spc="-1" strike="noStrike">
              <a:solidFill>
                <a:srgbClr val="cc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which they are curious.”</a:t>
            </a:r>
            <a:endParaRPr b="0" lang="en-US" sz="2000" spc="-1" strike="noStrike">
              <a:solidFill>
                <a:srgbClr val="cc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cc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NWREL, 1997)</a:t>
            </a:r>
            <a:endParaRPr b="0" lang="en-US" sz="2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1660680"/>
            <a:ext cx="7407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ce instruction that involves students in active learning.</a:t>
            </a:r>
            <a:endParaRPr b="0" lang="en-US" sz="2000" spc="-1" strike="noStrike">
              <a:solidFill>
                <a:srgbClr val="ccffcc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hasis is placed on:</a:t>
            </a:r>
            <a:endParaRPr b="0" lang="en-US" sz="2000" spc="-1" strike="noStrike">
              <a:solidFill>
                <a:srgbClr val="ccffcc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ing</a:t>
            </a:r>
            <a:endParaRPr b="0" lang="en-US" sz="2000" spc="-1" strike="noStrike">
              <a:solidFill>
                <a:srgbClr val="ccffcc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2000" spc="-1" strike="noStrike">
              <a:solidFill>
                <a:srgbClr val="ccffcc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itical Thinking</a:t>
            </a:r>
            <a:endParaRPr b="0" lang="en-US" sz="20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tudents Engaging in Inquir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09480" y="1600200"/>
            <a:ext cx="8076960" cy="4648320"/>
            <a:chOff x="609480" y="1600200"/>
            <a:chExt cx="8076960" cy="4648320"/>
          </a:xfrm>
        </p:grpSpPr>
        <p:sp>
          <p:nvSpPr>
            <p:cNvPr id="87" name=""/>
            <p:cNvSpPr/>
            <p:nvPr/>
          </p:nvSpPr>
          <p:spPr>
            <a:xfrm>
              <a:off x="609480" y="3124440"/>
              <a:ext cx="3072600" cy="914400"/>
            </a:xfrm>
            <a:prstGeom prst="ellipse">
              <a:avLst/>
            </a:prstGeom>
            <a:solidFill>
              <a:srgbClr val="003366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ommunicate investigation 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rocedures, data, and explanations 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to others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11480" y="5334120"/>
              <a:ext cx="3072960" cy="914400"/>
            </a:xfrm>
            <a:prstGeom prst="ellipse">
              <a:avLst/>
            </a:prstGeom>
            <a:solidFill>
              <a:srgbClr val="003366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se evidence and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cientific knowledge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to develop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explanations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55400" y="1600200"/>
              <a:ext cx="3072960" cy="914400"/>
            </a:xfrm>
            <a:prstGeom prst="ellipse">
              <a:avLst/>
            </a:prstGeom>
            <a:solidFill>
              <a:srgbClr val="003366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Ask questions about 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objects, organisms,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and 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events in the environment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87160" y="5257800"/>
              <a:ext cx="3072600" cy="914400"/>
            </a:xfrm>
            <a:prstGeom prst="ellipse">
              <a:avLst/>
            </a:prstGeom>
            <a:solidFill>
              <a:srgbClr val="003366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se appropriate tools 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and  techniques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to gather and interpret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13840" y="3124440"/>
              <a:ext cx="3072600" cy="914400"/>
            </a:xfrm>
            <a:prstGeom prst="ellipse">
              <a:avLst/>
            </a:prstGeom>
            <a:solidFill>
              <a:srgbClr val="003366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lan and conduct 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imple investigations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657600" y="3122640"/>
            <a:ext cx="176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ience as Inquiry</a:t>
            </a:r>
            <a:endParaRPr b="0" lang="en-US" sz="2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4038480"/>
            <a:ext cx="762120" cy="1295640"/>
          </a:xfrm>
          <a:prstGeom prst="line">
            <a:avLst/>
          </a:prstGeom>
          <a:ln w="22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980720" y="2209680"/>
            <a:ext cx="1219320" cy="914400"/>
          </a:xfrm>
          <a:prstGeom prst="line">
            <a:avLst/>
          </a:prstGeom>
          <a:ln w="22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5867280"/>
            <a:ext cx="838080" cy="0"/>
          </a:xfrm>
          <a:prstGeom prst="line">
            <a:avLst/>
          </a:prstGeom>
          <a:ln w="22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120" y="4038480"/>
            <a:ext cx="838440" cy="1219320"/>
          </a:xfrm>
          <a:prstGeom prst="line">
            <a:avLst/>
          </a:prstGeom>
          <a:ln w="22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2209680"/>
            <a:ext cx="990720" cy="914400"/>
          </a:xfrm>
          <a:prstGeom prst="line">
            <a:avLst/>
          </a:prstGeom>
          <a:ln w="22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65070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Carin, Bass &amp; Contant, 2005)</a:t>
            </a:r>
            <a:endParaRPr b="0" lang="en-US" sz="12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hen Doing Science as Inquir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at every grade level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ing and engaging in scientific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ing priority to evidence as they plan and conduct             investigations using appropriate tools and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ing critically and logically about the relationships between evidence and expla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ng and analyzing alternative expla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ng scientific arg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65070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Carin, Bass &amp; Contant, 2005)</a:t>
            </a:r>
            <a:endParaRPr b="0" lang="en-US" sz="12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hen Doing Science as Inquir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s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ing how to focus, challenge and promote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ing decisions ab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431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initiate inqui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31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encourage dis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31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ctivities should be small group or whole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31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confront misconce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31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uch guidance should be offered in th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65070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Carin, Bass &amp; Contant, 2005)</a:t>
            </a:r>
            <a:endParaRPr b="0" lang="en-US" sz="12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-E Model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developed by Biological Sciences Curriculum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model of science instruction relevant to teaching science as inqui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r objectives, specific concepts and explanations for student learning are identified by the tea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 preparation by the teacher to provide expository instruction regarding specific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5070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Carin, Bass &amp; Contant, 2005)</a:t>
            </a:r>
            <a:endParaRPr b="0" lang="en-US" sz="12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-E Model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VE PHASES OF 5-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ab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65070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Carin, Bass &amp; Contant, 2005)</a:t>
            </a:r>
            <a:endParaRPr b="0" lang="en-US" sz="12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-E Model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 that initiate learning and stimulate curio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connect to relevant past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include asking questions, posing a problem or acting out a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53080" y="65070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Carin, Bass &amp; Contant, 2005)</a:t>
            </a:r>
            <a:endParaRPr b="0" lang="en-US" sz="12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-E Model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have a concrete physical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for kinesthetic lear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observe properties, establish relationships, note patterns and ask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 guides, coaches and facili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65070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Carin, Bass &amp; Contant, 2005)</a:t>
            </a:r>
            <a:endParaRPr b="0" lang="en-US" sz="12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9:52:32Z</dcterms:created>
  <dc:creator>Brenda Crouch</dc:creator>
  <dc:description/>
  <dc:language>en-US</dc:language>
  <cp:lastModifiedBy>meng</cp:lastModifiedBy>
  <dcterms:modified xsi:type="dcterms:W3CDTF">2007-05-23T13:21:17Z</dcterms:modified>
  <cp:revision>3</cp:revision>
  <dc:subject/>
  <dc:title>Slide 1</dc:title>
</cp:coreProperties>
</file>